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67688775321"/>
          <c:y val="0.02019192323070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7780246639"/>
          <c:y val="0.156537385045982"/>
          <c:w val="0.959893345183869"/>
          <c:h val="0.8232706917233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3</c:v>
                </c:pt>
                <c:pt idx="2">
                  <c:v>19</c:v>
                </c:pt>
                <c:pt idx="3">
                  <c:v>5</c:v>
                </c:pt>
                <c:pt idx="4">
                  <c:v>6</c:v>
                </c:pt>
                <c:pt idx="5">
                  <c:v>1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8.14402173913044</c:v>
                </c:pt>
                <c:pt idx="1">
                  <c:v>6.60326086956522</c:v>
                </c:pt>
                <c:pt idx="2">
                  <c:v>18.0489130434783</c:v>
                </c:pt>
                <c:pt idx="3">
                  <c:v>16.2880434782609</c:v>
                </c:pt>
                <c:pt idx="4">
                  <c:v>8.36413043478261</c:v>
                </c:pt>
                <c:pt idx="5">
                  <c:v>8.36413043478261</c:v>
                </c:pt>
                <c:pt idx="6">
                  <c:v>3.52173913043478</c:v>
                </c:pt>
                <c:pt idx="7">
                  <c:v>8.3641304347826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76086956521739</c:v>
                </c:pt>
                <c:pt idx="15">
                  <c:v>1.54076086956522</c:v>
                </c:pt>
              </c:numCache>
            </c:numRef>
          </c:val>
        </c:ser>
        <c:gapWidth val="100"/>
        <c:overlap val="0"/>
        <c:axId val="57283944"/>
        <c:axId val="67705817"/>
      </c:barChart>
      <c:catAx>
        <c:axId val="572839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5817"/>
        <c:crossesAt val="0"/>
        <c:auto val="1"/>
        <c:lblAlgn val="ctr"/>
        <c:lblOffset val="100"/>
        <c:noMultiLvlLbl val="0"/>
      </c:catAx>
      <c:valAx>
        <c:axId val="67705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394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59957335229545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</c:v>
                </c:pt>
                <c:pt idx="3">
                  <c:v>0</c:v>
                </c:pt>
                <c:pt idx="4">
                  <c:v>7</c:v>
                </c:pt>
                <c:pt idx="5">
                  <c:v>3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4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13333333333333</c:v>
                </c:pt>
                <c:pt idx="1">
                  <c:v>4.13333333333333</c:v>
                </c:pt>
                <c:pt idx="2">
                  <c:v>11.0222222222222</c:v>
                </c:pt>
                <c:pt idx="3">
                  <c:v>9.64444444444445</c:v>
                </c:pt>
                <c:pt idx="4">
                  <c:v>5.51111111111111</c:v>
                </c:pt>
                <c:pt idx="5">
                  <c:v>6.88888888888889</c:v>
                </c:pt>
                <c:pt idx="6">
                  <c:v>4.13333333333333</c:v>
                </c:pt>
                <c:pt idx="7">
                  <c:v>4.13333333333333</c:v>
                </c:pt>
                <c:pt idx="8">
                  <c:v>2.75555555555556</c:v>
                </c:pt>
                <c:pt idx="9">
                  <c:v>2.75555555555556</c:v>
                </c:pt>
                <c:pt idx="10">
                  <c:v>2.75555555555556</c:v>
                </c:pt>
                <c:pt idx="11">
                  <c:v>0</c:v>
                </c:pt>
                <c:pt idx="12">
                  <c:v>1.37777777777778</c:v>
                </c:pt>
                <c:pt idx="13">
                  <c:v>1.37777777777778</c:v>
                </c:pt>
                <c:pt idx="14">
                  <c:v>1.3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5227029"/>
        <c:axId val="56186878"/>
      </c:barChart>
      <c:catAx>
        <c:axId val="252270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86878"/>
        <c:crossesAt val="0"/>
        <c:auto val="1"/>
        <c:lblAlgn val="ctr"/>
        <c:lblOffset val="100"/>
        <c:noMultiLvlLbl val="0"/>
      </c:catAx>
      <c:valAx>
        <c:axId val="56186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2702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60001777698769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6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</c:v>
                </c:pt>
                <c:pt idx="1">
                  <c:v>4.8</c:v>
                </c:pt>
                <c:pt idx="2">
                  <c:v>12.8</c:v>
                </c:pt>
                <c:pt idx="3">
                  <c:v>11.2</c:v>
                </c:pt>
                <c:pt idx="4">
                  <c:v>6.4</c:v>
                </c:pt>
                <c:pt idx="5">
                  <c:v>8</c:v>
                </c:pt>
                <c:pt idx="6">
                  <c:v>4.8</c:v>
                </c:pt>
                <c:pt idx="7">
                  <c:v>4.8</c:v>
                </c:pt>
                <c:pt idx="8">
                  <c:v>3.2</c:v>
                </c:pt>
                <c:pt idx="9">
                  <c:v>3.2</c:v>
                </c:pt>
                <c:pt idx="10">
                  <c:v>3.2</c:v>
                </c:pt>
                <c:pt idx="11">
                  <c:v>0</c:v>
                </c:pt>
                <c:pt idx="12">
                  <c:v>1.6</c:v>
                </c:pt>
                <c:pt idx="13">
                  <c:v>1.6</c:v>
                </c:pt>
                <c:pt idx="14">
                  <c:v>1.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3208824"/>
        <c:axId val="12377012"/>
      </c:barChart>
      <c:catAx>
        <c:axId val="932088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7012"/>
        <c:crossesAt val="0"/>
        <c:auto val="1"/>
        <c:lblAlgn val="ctr"/>
        <c:lblOffset val="100"/>
        <c:noMultiLvlLbl val="0"/>
      </c:catAx>
      <c:valAx>
        <c:axId val="12377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088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333333333333</c:v>
                </c:pt>
                <c:pt idx="1">
                  <c:v>3.53333333333333</c:v>
                </c:pt>
                <c:pt idx="2">
                  <c:v>9.42222222222222</c:v>
                </c:pt>
                <c:pt idx="3">
                  <c:v>8.24444444444444</c:v>
                </c:pt>
                <c:pt idx="4">
                  <c:v>4.71111111111111</c:v>
                </c:pt>
                <c:pt idx="5">
                  <c:v>5.88888888888889</c:v>
                </c:pt>
                <c:pt idx="6">
                  <c:v>3.53333333333333</c:v>
                </c:pt>
                <c:pt idx="7">
                  <c:v>3.53333333333333</c:v>
                </c:pt>
                <c:pt idx="8">
                  <c:v>2.35555555555556</c:v>
                </c:pt>
                <c:pt idx="9">
                  <c:v>2.35555555555556</c:v>
                </c:pt>
                <c:pt idx="10">
                  <c:v>2.35555555555556</c:v>
                </c:pt>
                <c:pt idx="11">
                  <c:v>0</c:v>
                </c:pt>
                <c:pt idx="12">
                  <c:v>1.17777777777778</c:v>
                </c:pt>
                <c:pt idx="13">
                  <c:v>1.17777777777778</c:v>
                </c:pt>
                <c:pt idx="14">
                  <c:v>1.1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0475977"/>
        <c:axId val="46805130"/>
      </c:barChart>
      <c:catAx>
        <c:axId val="4047597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05130"/>
        <c:crossesAt val="0"/>
        <c:auto val="1"/>
        <c:lblAlgn val="ctr"/>
        <c:lblOffset val="100"/>
        <c:noMultiLvlLbl val="0"/>
      </c:catAx>
      <c:valAx>
        <c:axId val="46805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597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8741364661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116353458617"/>
          <c:w val="0.95999113376925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7</c:v>
                </c:pt>
                <c:pt idx="2">
                  <c:v>3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3478260869565</c:v>
                </c:pt>
                <c:pt idx="1">
                  <c:v>5.21739130434783</c:v>
                </c:pt>
                <c:pt idx="2">
                  <c:v>14.2608695652174</c:v>
                </c:pt>
                <c:pt idx="3">
                  <c:v>12.8695652173913</c:v>
                </c:pt>
                <c:pt idx="4">
                  <c:v>6.60869565217391</c:v>
                </c:pt>
                <c:pt idx="5">
                  <c:v>6.60869565217391</c:v>
                </c:pt>
                <c:pt idx="6">
                  <c:v>2.78260869565217</c:v>
                </c:pt>
                <c:pt idx="7">
                  <c:v>6.6086956521739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130434782609</c:v>
                </c:pt>
                <c:pt idx="15">
                  <c:v>1.21739130434783</c:v>
                </c:pt>
              </c:numCache>
            </c:numRef>
          </c:val>
        </c:ser>
        <c:gapWidth val="100"/>
        <c:overlap val="0"/>
        <c:axId val="18068074"/>
        <c:axId val="139348"/>
      </c:barChart>
      <c:catAx>
        <c:axId val="180680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48"/>
        <c:crossesAt val="0"/>
        <c:auto val="1"/>
        <c:lblAlgn val="ctr"/>
        <c:lblOffset val="100"/>
        <c:noMultiLvlLbl val="0"/>
      </c:catAx>
      <c:valAx>
        <c:axId val="139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680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04377352919"/>
          <c:y val="0.020583533173461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75204842401"/>
          <c:y val="0.209232613908873"/>
          <c:w val="0.959954233409611"/>
          <c:h val="0.770183852917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4</c:v>
                </c:pt>
                <c:pt idx="3">
                  <c:v>4</c:v>
                </c:pt>
                <c:pt idx="4">
                  <c:v>3</c:v>
                </c:pt>
                <c:pt idx="5">
                  <c:v>8</c:v>
                </c:pt>
                <c:pt idx="6">
                  <c:v>3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3315217391304</c:v>
                </c:pt>
                <c:pt idx="1">
                  <c:v>4.97282608695652</c:v>
                </c:pt>
                <c:pt idx="2">
                  <c:v>13.5923913043478</c:v>
                </c:pt>
                <c:pt idx="3">
                  <c:v>12.2663043478261</c:v>
                </c:pt>
                <c:pt idx="4">
                  <c:v>6.29891304347826</c:v>
                </c:pt>
                <c:pt idx="5">
                  <c:v>6.29891304347826</c:v>
                </c:pt>
                <c:pt idx="6">
                  <c:v>2.65217391304348</c:v>
                </c:pt>
                <c:pt idx="7">
                  <c:v>6.298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608695652174</c:v>
                </c:pt>
                <c:pt idx="15">
                  <c:v>1.16032608695652</c:v>
                </c:pt>
              </c:numCache>
            </c:numRef>
          </c:val>
        </c:ser>
        <c:gapWidth val="100"/>
        <c:overlap val="0"/>
        <c:axId val="58193131"/>
        <c:axId val="65837636"/>
      </c:barChart>
      <c:catAx>
        <c:axId val="5819313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7636"/>
        <c:crossesAt val="0"/>
        <c:auto val="1"/>
        <c:lblAlgn val="ctr"/>
        <c:lblOffset val="100"/>
        <c:noMultiLvlLbl val="0"/>
      </c:catAx>
      <c:valAx>
        <c:axId val="65837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313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27213695396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0484061393"/>
          <c:y val="0.209116353458617"/>
          <c:w val="0.959969008264463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7</c:v>
                </c:pt>
                <c:pt idx="2">
                  <c:v>9</c:v>
                </c:pt>
                <c:pt idx="3">
                  <c:v>3</c:v>
                </c:pt>
                <c:pt idx="4">
                  <c:v>5</c:v>
                </c:pt>
                <c:pt idx="5">
                  <c:v>23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3423913043478</c:v>
                </c:pt>
                <c:pt idx="1">
                  <c:v>5.13586956521739</c:v>
                </c:pt>
                <c:pt idx="2">
                  <c:v>14.0380434782609</c:v>
                </c:pt>
                <c:pt idx="3">
                  <c:v>12.6684782608696</c:v>
                </c:pt>
                <c:pt idx="4">
                  <c:v>6.5054347826087</c:v>
                </c:pt>
                <c:pt idx="5">
                  <c:v>6.5054347826087</c:v>
                </c:pt>
                <c:pt idx="6">
                  <c:v>2.73913043478261</c:v>
                </c:pt>
                <c:pt idx="7">
                  <c:v>6.50543478260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95652173913</c:v>
                </c:pt>
                <c:pt idx="15">
                  <c:v>1.19836956521739</c:v>
                </c:pt>
              </c:numCache>
            </c:numRef>
          </c:val>
        </c:ser>
        <c:gapWidth val="100"/>
        <c:overlap val="0"/>
        <c:axId val="21371467"/>
        <c:axId val="29433416"/>
      </c:barChart>
      <c:catAx>
        <c:axId val="2137146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3416"/>
        <c:crossesAt val="0"/>
        <c:auto val="1"/>
        <c:lblAlgn val="ctr"/>
        <c:lblOffset val="100"/>
        <c:noMultiLvlLbl val="0"/>
      </c:catAx>
      <c:valAx>
        <c:axId val="29433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146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53084499740798"/>
          <c:y val="0.02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14989261646"/>
          <c:y val="0.1564"/>
          <c:w val="0.95989780048878"/>
          <c:h val="0.82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1</c:v>
                </c:pt>
                <c:pt idx="2">
                  <c:v>13</c:v>
                </c:pt>
                <c:pt idx="3">
                  <c:v>6</c:v>
                </c:pt>
                <c:pt idx="4">
                  <c:v>1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</c:v>
                </c:pt>
                <c:pt idx="1">
                  <c:v>3.82962962962963</c:v>
                </c:pt>
                <c:pt idx="2">
                  <c:v>10.4444444444444</c:v>
                </c:pt>
                <c:pt idx="3">
                  <c:v>9.4</c:v>
                </c:pt>
                <c:pt idx="4">
                  <c:v>4.87407407407407</c:v>
                </c:pt>
                <c:pt idx="5">
                  <c:v>4.87407407407407</c:v>
                </c:pt>
                <c:pt idx="6">
                  <c:v>2.08888888888889</c:v>
                </c:pt>
                <c:pt idx="7">
                  <c:v>4.8740740740740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4444444444444</c:v>
                </c:pt>
                <c:pt idx="15">
                  <c:v>0.87037037037037</c:v>
                </c:pt>
              </c:numCache>
            </c:numRef>
          </c:val>
        </c:ser>
        <c:gapWidth val="100"/>
        <c:overlap val="0"/>
        <c:axId val="26708594"/>
        <c:axId val="78643537"/>
      </c:barChart>
      <c:catAx>
        <c:axId val="267085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43537"/>
        <c:crossesAt val="0"/>
        <c:auto val="1"/>
        <c:lblAlgn val="ctr"/>
        <c:lblOffset val="100"/>
        <c:noMultiLvlLbl val="0"/>
      </c:catAx>
      <c:valAx>
        <c:axId val="78643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859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28748753186"/>
          <c:y val="0.0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6"/>
          <c:w val="0.959991133769256"/>
          <c:h val="0.7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2</c:v>
                </c:pt>
                <c:pt idx="5">
                  <c:v>18</c:v>
                </c:pt>
                <c:pt idx="6">
                  <c:v>6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</c:v>
                </c:pt>
                <c:pt idx="1">
                  <c:v>4.64444444444444</c:v>
                </c:pt>
                <c:pt idx="2">
                  <c:v>12.6666666666667</c:v>
                </c:pt>
                <c:pt idx="3">
                  <c:v>11.4</c:v>
                </c:pt>
                <c:pt idx="4">
                  <c:v>5.91111111111111</c:v>
                </c:pt>
                <c:pt idx="5">
                  <c:v>5.91111111111111</c:v>
                </c:pt>
                <c:pt idx="6">
                  <c:v>2.53333333333333</c:v>
                </c:pt>
                <c:pt idx="7">
                  <c:v>5.911111111111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6666666666667</c:v>
                </c:pt>
                <c:pt idx="15">
                  <c:v>1.05555555555556</c:v>
                </c:pt>
              </c:numCache>
            </c:numRef>
          </c:val>
        </c:ser>
        <c:gapWidth val="100"/>
        <c:overlap val="0"/>
        <c:axId val="20321534"/>
        <c:axId val="33777287"/>
      </c:barChart>
      <c:catAx>
        <c:axId val="2032153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77287"/>
        <c:crossesAt val="0"/>
        <c:auto val="1"/>
        <c:lblAlgn val="ctr"/>
        <c:lblOffset val="100"/>
        <c:noMultiLvlLbl val="0"/>
      </c:catAx>
      <c:valAx>
        <c:axId val="33777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153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09959026983"/>
          <c:y val="0.02038776733959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59063895759"/>
          <c:y val="0.20907455526684"/>
          <c:w val="0.960023624081798"/>
          <c:h val="0.7699380371776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5</c:v>
                </c:pt>
                <c:pt idx="3">
                  <c:v>1</c:v>
                </c:pt>
                <c:pt idx="4">
                  <c:v>3</c:v>
                </c:pt>
                <c:pt idx="5">
                  <c:v>9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</c:v>
                </c:pt>
                <c:pt idx="1">
                  <c:v>3.42222222222222</c:v>
                </c:pt>
                <c:pt idx="2">
                  <c:v>9.33333333333333</c:v>
                </c:pt>
                <c:pt idx="3">
                  <c:v>8.4</c:v>
                </c:pt>
                <c:pt idx="4">
                  <c:v>4.35555555555556</c:v>
                </c:pt>
                <c:pt idx="5">
                  <c:v>4.35555555555556</c:v>
                </c:pt>
                <c:pt idx="6">
                  <c:v>1.86666666666667</c:v>
                </c:pt>
                <c:pt idx="7">
                  <c:v>4.355555555555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33333333333333</c:v>
                </c:pt>
                <c:pt idx="15">
                  <c:v>0.777777777777778</c:v>
                </c:pt>
              </c:numCache>
            </c:numRef>
          </c:val>
        </c:ser>
        <c:gapWidth val="100"/>
        <c:overlap val="0"/>
        <c:axId val="57699464"/>
        <c:axId val="74278230"/>
      </c:barChart>
      <c:catAx>
        <c:axId val="576994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78230"/>
        <c:crossesAt val="0"/>
        <c:auto val="1"/>
        <c:lblAlgn val="ctr"/>
        <c:lblOffset val="100"/>
        <c:noMultiLvlLbl val="0"/>
      </c:catAx>
      <c:valAx>
        <c:axId val="74278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946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79" spc="-1" strike="noStrike">
                <a:solidFill>
                  <a:srgbClr val="000000"/>
                </a:solidFill>
                <a:latin typeface="Arial"/>
              </a:defRPr>
            </a:pPr>
            <a:r>
              <a:rPr b="1" sz="1479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181328545781"/>
          <c:y val="0.020137856467090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30700179533"/>
          <c:y val="0.209487768617381"/>
          <c:w val="0.959964093357271"/>
          <c:h val="0.7702392215164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2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</c:v>
                </c:pt>
                <c:pt idx="1">
                  <c:v>3.74814814814815</c:v>
                </c:pt>
                <c:pt idx="2">
                  <c:v>10.2222222222222</c:v>
                </c:pt>
                <c:pt idx="3">
                  <c:v>9.2</c:v>
                </c:pt>
                <c:pt idx="4">
                  <c:v>4.77037037037037</c:v>
                </c:pt>
                <c:pt idx="5">
                  <c:v>4.77037037037037</c:v>
                </c:pt>
                <c:pt idx="6">
                  <c:v>2.04444444444444</c:v>
                </c:pt>
                <c:pt idx="7">
                  <c:v>4.7703703703703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222222222222</c:v>
                </c:pt>
                <c:pt idx="15">
                  <c:v>0.851851851851852</c:v>
                </c:pt>
              </c:numCache>
            </c:numRef>
          </c:val>
        </c:ser>
        <c:gapWidth val="100"/>
        <c:overlap val="0"/>
        <c:axId val="7776740"/>
        <c:axId val="75426264"/>
      </c:barChart>
      <c:catAx>
        <c:axId val="77767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26264"/>
        <c:crossesAt val="0"/>
        <c:auto val="1"/>
        <c:lblAlgn val="ctr"/>
        <c:lblOffset val="100"/>
        <c:noMultiLvlLbl val="0"/>
      </c:catAx>
      <c:valAx>
        <c:axId val="75426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7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230471191101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333333333333</c:v>
                </c:pt>
                <c:pt idx="1">
                  <c:v>3.33333333333333</c:v>
                </c:pt>
                <c:pt idx="2">
                  <c:v>8.88888888888889</c:v>
                </c:pt>
                <c:pt idx="3">
                  <c:v>7.77777777777778</c:v>
                </c:pt>
                <c:pt idx="4">
                  <c:v>5.55555555555556</c:v>
                </c:pt>
                <c:pt idx="5">
                  <c:v>5.55555555555556</c:v>
                </c:pt>
                <c:pt idx="6">
                  <c:v>4.44444444444444</c:v>
                </c:pt>
                <c:pt idx="7">
                  <c:v>3.33333333333333</c:v>
                </c:pt>
                <c:pt idx="8">
                  <c:v>2.22222222222222</c:v>
                </c:pt>
                <c:pt idx="9">
                  <c:v>2.22222222222222</c:v>
                </c:pt>
                <c:pt idx="10">
                  <c:v>2.2222222222222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1111111111111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1692560"/>
        <c:axId val="12450141"/>
      </c:barChart>
      <c:catAx>
        <c:axId val="616925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0141"/>
        <c:crossesAt val="0"/>
        <c:auto val="1"/>
        <c:lblAlgn val="ctr"/>
        <c:lblOffset val="100"/>
        <c:noMultiLvlLbl val="0"/>
      </c:catAx>
      <c:valAx>
        <c:axId val="12450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25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811-3230-4627-BE81-E75EE05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07A-BB0F-40D9-8B00-60DE4D1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422-CD77-47DC-92D5-163B8F18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F9B-743E-4CB8-A733-3BBFA65A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722-3ED3-423C-812F-657CE76E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E53-5348-4A07-857B-6362AD15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42B-4504-40E5-A193-CA06CAF0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0C1-766F-4A40-954B-C0A6CD9D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7DB-0930-46B8-845D-F049F660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273-8903-413A-A8FD-7C5D510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65D-D732-45C0-8C02-4B71F029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808-E589-4D9D-95F7-CC952EB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F66-4BE4-46C7-9226-8CBE9752B84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AF1-D10D-4B7B-8ACC-70F8A423B8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cronograma 2&#186; semeste\Cronograma - PSTE.doc" TargetMode="External"/><Relationship Id="rId3" Type="http://schemas.openxmlformats.org/officeDocument/2006/relationships/hyperlink" Target="..\cronograma 2&#186; semeste\Cronograma - completo.doc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\cronograma de a&#231;&#227;o das escolas\Cronograman - EEBS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BRAZ SINIGÁGLI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BATAYPORÃ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42920" y="2286000"/>
          <a:ext cx="6715080" cy="2000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" name="CaixaDeTexto 5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642960" y="4643280"/>
          <a:ext cx="4286160" cy="130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4643280"/>
                    <a:ext cx="428616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ANDRE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42920" y="2214720"/>
          <a:ext cx="878688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8" name="CaixaDeTexto 4"/>
          <p:cNvSpPr/>
          <p:nvPr/>
        </p:nvSpPr>
        <p:spPr>
          <a:xfrm>
            <a:off x="2214720" y="535788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64304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428760" y="2214720"/>
          <a:ext cx="809928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5" name="CaixaDeTexto 6"/>
          <p:cNvSpPr/>
          <p:nvPr/>
        </p:nvSpPr>
        <p:spPr>
          <a:xfrm>
            <a:off x="2571840" y="4143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7"/>
          <p:cNvSpPr/>
          <p:nvPr/>
        </p:nvSpPr>
        <p:spPr>
          <a:xfrm>
            <a:off x="2000160" y="514368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357280" y="48578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48578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428760" y="2214720"/>
          <a:ext cx="8099280" cy="257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1857240" y="5214960"/>
            <a:ext cx="2714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857240" y="48578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48578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428760" y="2286000"/>
          <a:ext cx="8020080" cy="235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0" name="CaixaDeTexto 5"/>
          <p:cNvSpPr/>
          <p:nvPr/>
        </p:nvSpPr>
        <p:spPr>
          <a:xfrm>
            <a:off x="192888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1285920" y="47149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47149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PAULO SÉR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357120" y="2143080"/>
          <a:ext cx="8099640" cy="250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1714680" y="5143680"/>
            <a:ext cx="29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00016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428760" y="2214720"/>
          <a:ext cx="8099280" cy="2357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67" name="Object 4"/>
          <p:cNvGraphicFramePr/>
          <p:nvPr/>
        </p:nvGraphicFramePr>
        <p:xfrm>
          <a:off x="1714680" y="4643280"/>
          <a:ext cx="3811320" cy="144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4680" y="4643280"/>
                    <a:ext cx="381132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3"/>
          <p:cNvGraphicFramePr/>
          <p:nvPr/>
        </p:nvGraphicFramePr>
        <p:xfrm>
          <a:off x="428760" y="2286000"/>
          <a:ext cx="8099280" cy="242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3" name="CaixaDeTexto 5"/>
          <p:cNvSpPr/>
          <p:nvPr/>
        </p:nvSpPr>
        <p:spPr>
          <a:xfrm>
            <a:off x="1857240" y="5072040"/>
            <a:ext cx="18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1500120" y="471492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285840" y="2214720"/>
          <a:ext cx="81010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9" name="CaixaDeTexto 5"/>
          <p:cNvSpPr/>
          <p:nvPr/>
        </p:nvSpPr>
        <p:spPr>
          <a:xfrm>
            <a:off x="157176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071720" y="49291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1720" y="49291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Religiosa /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Ed. Física / Artes/ Port/ Mat/ Hist/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7,4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2,5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Ed. Religio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/ Mat 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2,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7,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Ed. Fís/ Mat/ Inglês/ Fís/ Fil/ Soc/ Ed. Religio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His 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3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No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MARIA DE LOUR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214200" y="2214720"/>
          <a:ext cx="6858000" cy="2643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1571760" y="4929120"/>
          <a:ext cx="381132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4929120"/>
                    <a:ext cx="38113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Espaço Reservado para Rodapé 6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7143840" y="342900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214200" y="2286000"/>
          <a:ext cx="6786720" cy="242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4" name="CaixaDeTexto 5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1214280" y="5000760"/>
          <a:ext cx="381168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5000760"/>
                    <a:ext cx="38116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"/>
          <p:cNvPicPr/>
          <p:nvPr/>
        </p:nvPicPr>
        <p:blipFill>
          <a:blip r:embed="rId4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14200" y="2214720"/>
          <a:ext cx="7286760" cy="242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1" name="CaixaDeTexto 5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571760" y="4929120"/>
          <a:ext cx="3786120" cy="130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1760" y="4929120"/>
                    <a:ext cx="378612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7286760" y="33577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19:56:26Z</dcterms:modified>
  <cp:revision>20</cp:revision>
  <dc:subject/>
  <dc:title>EE BRAZ SINIGÁGLIA BATAYPORÃ - MS</dc:title>
</cp:coreProperties>
</file>